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493E1-E1D0-4043-AEB0-32E9770416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move the slide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867FC-C2AD-4915-B7ED-228C7BEEA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nnotate the promp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Pink for the text names, yellow for the essential question, blue for the requirements of the assig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iffus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Reading a passage, noting unfamiliar words, discovering meaning of unfamiliar words using context clues, dictionaries, and/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auruses, and replacing unfamiliar words with familiar 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AFT-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le, audience, format,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1AB4D-1C81-4EE2-8211-7C89FF321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FC1-6E91-455A-BBB6-8890F9CC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D3BA-D485-4B1B-BD4A-AB400E3D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8AF7-93F9-4ACA-A4C6-8E519BF6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B3DD-DCAB-49EC-BF42-CE165264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9FEA-262E-4A7D-8A8B-7F152D6E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46E2-BE45-47FC-B4BA-5721AC72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E566-BAF2-42E7-8679-E3A610F5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CA35-A74D-4920-8C33-2BE9AD3F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6871-C3CD-422C-A7CA-7CE067E8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6CB2-EC32-4C54-817F-DDBE6CE5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5930-DE97-46C1-95FF-070491F9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0951-E005-425C-9EA3-B647EC1F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AF27-F986-45D3-8203-FF87C5BC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22FD-52B3-4557-844E-8158887A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250F-9E05-427A-90F4-88401315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6E84-F3E8-49EE-ABBB-85A1266B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5500-CF45-45C1-A103-B95973E9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5A6B2-A938-4387-A34C-50165BBA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2F021-9059-45D8-B6B0-1E7A4A40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18540-EBBD-4F33-90F6-959216A0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D30D5-9303-4BA8-ADEF-C5BEB679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23914-5018-48BC-B6D6-821D9428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F213-7EF6-4AE7-98CD-15245505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F09DA-EEFB-4551-B6CF-936C80DB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C657E-6504-4FF7-8993-CE92AFE3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0F615-4F46-4BCB-B8BB-52CCDC7B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68B3A-FE44-467C-80B2-27ECF7CF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780F9-FB7F-4286-8690-F3E66820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5BC2A-6F0D-4D13-BA2D-D58A707D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C3E38-A209-4A65-BB54-86532591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CEB1E-C310-46DF-9584-216CCE48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DDEC4-23CF-429B-9500-74363A65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16202-4710-4F04-A368-C6D6DCA2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644E-006F-4DA0-9823-3CD7D270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E011B-FCDD-4405-B0C2-B2AABDA0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3558E-1CF8-4DDA-B881-55738061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ACA69-EF92-4F7D-B66B-F7D0ADBD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CD3D4-9228-4A5F-B4CB-F4E93D24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EC57B-8A2B-4F17-8085-0D9548F1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1A5AF-D3BC-421F-A188-FA379573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61103-7DE8-4F84-9D83-A36FA67A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BBBB3-7BB1-430E-8563-6EFCC1B5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EFA58-C5A3-424A-9DEB-36A9E4A5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7F436-7597-4BF1-B143-BD1E9A2E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20ED-8970-4922-A983-6E56D9C7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5646C-3E8B-43B7-A329-701C33F2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B1006-9343-48EC-A660-E84FFCA5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55365-FCEC-42E2-A820-02DDFD95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9B4CA-EED6-480D-A6C3-85C3DFC6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20C6C-7DE1-4909-BB14-D819619D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137F0-454A-4E49-BC17-144AA98E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587AF-A127-41C7-BBF6-D0161ADD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175DE-339B-4609-8DC4-DC3BB576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E7D18-F435-4C5B-A577-4A4392E1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799CC-0278-4167-9B69-7BEF4327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5089-C1D3-4564-90E9-5AC2B318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DA383-D74B-451B-9643-486D8E3D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17290-29FC-4D42-AE9C-78CA77AD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83155-7958-4561-9646-4BBE89AB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26148-AF9A-480B-9007-05F05793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827A4-C01C-43E6-8592-60006015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298F3-D216-409D-A15D-4355EBC6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3E6E7-8BA4-4537-A071-60F33E39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FB342-09E5-49E2-A17F-9E5A6EB1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30558-0671-4AA6-BF44-24669963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4B5C5-B071-4C30-9DC7-9847520C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F762-87EA-4C4E-A97C-0890AD8C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1E053-0F00-4BCF-A493-C5465D6E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C9185-6281-457E-8FB8-CC463E27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756BC-F597-4C69-B996-35BC1CD3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8913F-A682-40B0-9A24-80341474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22FE0-AD29-4C65-A558-987DF294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53548-771F-4829-8300-132AB044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620B2-5FD2-4723-ABDE-17BD4BC9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E642E-CA4A-401E-9277-EE536E5A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AB377-79FC-44AE-AF89-C7D5ED80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7E62A-F242-44B8-A712-A0180E51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BF11-D99F-470B-92B6-FA3B22B8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EF9EA-174D-4098-A620-D1EEACA4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19D53-AE5E-41EE-A492-D4B423C9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D076B-34D2-4C80-9B54-E44C1613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86E4D-289A-445D-8C73-1322060F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F51DA-A60E-413D-8B1B-0EA639B7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4CEFA-3742-4304-B971-B63EE51C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80846-DFDC-40B5-A21C-6117F8B8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0C526-6C73-4B41-B5BD-596F2BA4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131B2-50F5-48EA-805F-AC089CCA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4C6E0-E42E-41A7-8CB0-FBA39D2E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D9F0-80A6-4ED4-BCE0-529964A5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9AAC9-7AAB-4D73-8073-48FBF968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1E4AD-4614-46A3-B19E-2DD0373D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7FA38-828E-41FE-BAF7-ECEF5823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F8AA1-E14B-4252-AF4E-18BC63A2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99D8D-9F86-4432-BAF4-C08BD9C4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74BBD-4C46-4991-9963-167035AA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EF423-582E-4B4C-BC9B-386D9E76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01131-CE93-4225-820C-28CCE63B4C88}" type="datetime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752480" y="28782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9E4CA6-9B11-4D19-823F-443B9BD1B36F}" type="slidenum">
              <a:rPr b="1" lang="en-US" sz="2400" spc="-1" strike="noStrike">
                <a:solidFill>
                  <a:srgbClr val="749805"/>
                </a:solidFill>
                <a:latin typeface="News Gothic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8"/>
          <p:cNvGrpSpPr/>
          <p:nvPr/>
        </p:nvGrpSpPr>
        <p:grpSpPr>
          <a:xfrm>
            <a:off x="843120" y="2971800"/>
            <a:ext cx="914400" cy="914400"/>
            <a:chOff x="843120" y="2971800"/>
            <a:chExt cx="914400" cy="914400"/>
          </a:xfrm>
        </p:grpSpPr>
        <p:sp>
          <p:nvSpPr>
            <p:cNvPr id="6" name="Rounded Rectangle 7"/>
            <p:cNvSpPr/>
            <p:nvPr/>
          </p:nvSpPr>
          <p:spPr>
            <a:xfrm>
              <a:off x="843120" y="29718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10"/>
            <p:cNvGrpSpPr/>
            <p:nvPr/>
          </p:nvGrpSpPr>
          <p:grpSpPr>
            <a:xfrm>
              <a:off x="948600" y="3034080"/>
              <a:ext cx="700920" cy="801000"/>
              <a:chOff x="948600" y="3034080"/>
              <a:chExt cx="700920" cy="801000"/>
            </a:xfrm>
          </p:grpSpPr>
          <p:sp>
            <p:nvSpPr>
              <p:cNvPr id="8" name="Oval 11"/>
              <p:cNvSpPr/>
              <p:nvPr/>
            </p:nvSpPr>
            <p:spPr>
              <a:xfrm>
                <a:off x="948600" y="3034080"/>
                <a:ext cx="700920" cy="455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val 12"/>
              <p:cNvSpPr/>
              <p:nvPr/>
            </p:nvSpPr>
            <p:spPr>
              <a:xfrm>
                <a:off x="1290240" y="3497400"/>
                <a:ext cx="29412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Oval 13"/>
              <p:cNvSpPr/>
              <p:nvPr/>
            </p:nvSpPr>
            <p:spPr>
              <a:xfrm>
                <a:off x="1274400" y="3706560"/>
                <a:ext cx="19080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Oval 14"/>
              <p:cNvSpPr/>
              <p:nvPr/>
            </p:nvSpPr>
            <p:spPr>
              <a:xfrm>
                <a:off x="1144080" y="3278160"/>
                <a:ext cx="302040" cy="19656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 Same Side Corner Rectangle 15"/>
          <p:cNvSpPr/>
          <p:nvPr/>
        </p:nvSpPr>
        <p:spPr>
          <a:xfrm rot="16200000">
            <a:off x="1066680" y="1603080"/>
            <a:ext cx="3475080" cy="3475080"/>
          </a:xfrm>
          <a:custGeom>
            <a:avLst/>
            <a:gdLst>
              <a:gd name="textAreaLeft" fmla="*/ 31680 w 3475080"/>
              <a:gd name="textAreaRight" fmla="*/ 3443400 w 3475080"/>
              <a:gd name="textAreaTop" fmla="*/ 31680 h 3475080"/>
              <a:gd name="textAreaBottom" fmla="*/ 3475440 h 3475080"/>
            </a:gdLst>
            <a:ahLst/>
            <a:rect l="textAreaLeft" t="textAreaTop" r="textAreaRight" b="textAreaBottom"/>
            <a:pathLst>
              <a:path w="3475038" h="3475038">
                <a:moveTo>
                  <a:pt x="108491" y="0"/>
                </a:moveTo>
                <a:lnTo>
                  <a:pt x="3366547" y="0"/>
                </a:lnTo>
                <a:lnTo>
                  <a:pt x="3366547" y="0"/>
                </a:lnTo>
                <a:arcTo wR="108491" hR="108491" stAng="-5400000" swAng="5400000"/>
                <a:lnTo>
                  <a:pt x="3475038" y="3475038"/>
                </a:lnTo>
                <a:lnTo>
                  <a:pt x="0" y="3475038"/>
                </a:lnTo>
                <a:lnTo>
                  <a:pt x="0" y="108491"/>
                </a:lnTo>
                <a:lnTo>
                  <a:pt x="0" y="108491"/>
                </a:lnTo>
                <a:arcTo wR="108491" hR="108491" stAng="10800000" swAng="5400000"/>
                <a:close/>
              </a:path>
            </a:pathLst>
          </a:custGeom>
          <a:solidFill>
            <a:srgbClr val="749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5"/>
          <p:cNvGrpSpPr/>
          <p:nvPr/>
        </p:nvGrpSpPr>
        <p:grpSpPr>
          <a:xfrm>
            <a:off x="2071800" y="2503440"/>
            <a:ext cx="1466640" cy="1676520"/>
            <a:chOff x="2071800" y="2503440"/>
            <a:chExt cx="1466640" cy="1676520"/>
          </a:xfrm>
        </p:grpSpPr>
        <p:sp>
          <p:nvSpPr>
            <p:cNvPr id="50" name="Oval 17"/>
            <p:cNvSpPr/>
            <p:nvPr/>
          </p:nvSpPr>
          <p:spPr>
            <a:xfrm>
              <a:off x="2071800" y="2503440"/>
              <a:ext cx="1466640" cy="9525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8"/>
            <p:cNvSpPr/>
            <p:nvPr/>
          </p:nvSpPr>
          <p:spPr>
            <a:xfrm>
              <a:off x="2787480" y="3473640"/>
              <a:ext cx="612720" cy="4096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9"/>
            <p:cNvSpPr/>
            <p:nvPr/>
          </p:nvSpPr>
          <p:spPr>
            <a:xfrm>
              <a:off x="2752560" y="3910320"/>
              <a:ext cx="398160" cy="2696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20"/>
            <p:cNvSpPr/>
            <p:nvPr/>
          </p:nvSpPr>
          <p:spPr>
            <a:xfrm>
              <a:off x="2481120" y="3016080"/>
              <a:ext cx="630000" cy="407880"/>
            </a:xfrm>
            <a:prstGeom prst="ellipse">
              <a:avLst/>
            </a:pr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ound Same Side Corner Rectangle 21"/>
          <p:cNvSpPr/>
          <p:nvPr/>
        </p:nvSpPr>
        <p:spPr>
          <a:xfrm flipH="1" rot="5400000">
            <a:off x="4571280" y="1603080"/>
            <a:ext cx="3475080" cy="3475080"/>
          </a:xfrm>
          <a:custGeom>
            <a:avLst/>
            <a:gdLst>
              <a:gd name="textAreaLeft" fmla="*/ 31680 w 3475080"/>
              <a:gd name="textAreaRight" fmla="*/ 3443400 w 3475080"/>
              <a:gd name="textAreaTop" fmla="*/ 31680 h 3475080"/>
              <a:gd name="textAreaBottom" fmla="*/ 3475440 h 3475080"/>
            </a:gdLst>
            <a:ahLst/>
            <a:rect l="textAreaLeft" t="textAreaTop" r="textAreaRight" b="textAreaBottom"/>
            <a:pathLst>
              <a:path w="3475038" h="3475038">
                <a:moveTo>
                  <a:pt x="108491" y="0"/>
                </a:moveTo>
                <a:lnTo>
                  <a:pt x="3366547" y="0"/>
                </a:lnTo>
                <a:lnTo>
                  <a:pt x="3366547" y="0"/>
                </a:lnTo>
                <a:arcTo wR="108491" hR="108491" stAng="-5400000" swAng="5400000"/>
                <a:lnTo>
                  <a:pt x="3475038" y="3475038"/>
                </a:lnTo>
                <a:lnTo>
                  <a:pt x="0" y="3475038"/>
                </a:lnTo>
                <a:lnTo>
                  <a:pt x="0" y="108491"/>
                </a:lnTo>
                <a:lnTo>
                  <a:pt x="0" y="108491"/>
                </a:lnTo>
                <a:arcTo wR="108491" hR="108491" stAng="10800000" swAng="5400000"/>
                <a:close/>
              </a:path>
            </a:pathLst>
          </a:custGeom>
          <a:solidFill>
            <a:srgbClr val="bac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AB6CF-5485-4927-B9D4-C422D0D9DACA}" type="datetime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3540C-ACBE-4F1F-863C-2591443B2DFB}" type="slidenum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 Same Side Corner Rectangle 15"/>
          <p:cNvSpPr/>
          <p:nvPr/>
        </p:nvSpPr>
        <p:spPr>
          <a:xfrm rot="16200000">
            <a:off x="1066680" y="1603080"/>
            <a:ext cx="3475080" cy="3475080"/>
          </a:xfrm>
          <a:custGeom>
            <a:avLst/>
            <a:gdLst>
              <a:gd name="textAreaLeft" fmla="*/ 31680 w 3475080"/>
              <a:gd name="textAreaRight" fmla="*/ 3443400 w 3475080"/>
              <a:gd name="textAreaTop" fmla="*/ 31680 h 3475080"/>
              <a:gd name="textAreaBottom" fmla="*/ 3475440 h 3475080"/>
            </a:gdLst>
            <a:ahLst/>
            <a:rect l="textAreaLeft" t="textAreaTop" r="textAreaRight" b="textAreaBottom"/>
            <a:pathLst>
              <a:path w="3475038" h="3475038">
                <a:moveTo>
                  <a:pt x="108491" y="0"/>
                </a:moveTo>
                <a:lnTo>
                  <a:pt x="3366547" y="0"/>
                </a:lnTo>
                <a:lnTo>
                  <a:pt x="3366547" y="0"/>
                </a:lnTo>
                <a:arcTo wR="108491" hR="108491" stAng="-5400000" swAng="5400000"/>
                <a:lnTo>
                  <a:pt x="3475038" y="3475038"/>
                </a:lnTo>
                <a:lnTo>
                  <a:pt x="0" y="3475038"/>
                </a:lnTo>
                <a:lnTo>
                  <a:pt x="0" y="108491"/>
                </a:lnTo>
                <a:lnTo>
                  <a:pt x="0" y="108491"/>
                </a:lnTo>
                <a:arcTo wR="108491" hR="108491" stAng="10800000" swAng="5400000"/>
                <a:close/>
              </a:path>
            </a:pathLst>
          </a:custGeom>
          <a:solidFill>
            <a:srgbClr val="749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5"/>
          <p:cNvGrpSpPr/>
          <p:nvPr/>
        </p:nvGrpSpPr>
        <p:grpSpPr>
          <a:xfrm>
            <a:off x="2071800" y="1843200"/>
            <a:ext cx="1466640" cy="1676160"/>
            <a:chOff x="2071800" y="1843200"/>
            <a:chExt cx="1466640" cy="1676160"/>
          </a:xfrm>
        </p:grpSpPr>
        <p:sp>
          <p:nvSpPr>
            <p:cNvPr id="98" name="Oval 17"/>
            <p:cNvSpPr/>
            <p:nvPr/>
          </p:nvSpPr>
          <p:spPr>
            <a:xfrm>
              <a:off x="2071800" y="1843200"/>
              <a:ext cx="1466640" cy="9525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8"/>
            <p:cNvSpPr/>
            <p:nvPr/>
          </p:nvSpPr>
          <p:spPr>
            <a:xfrm>
              <a:off x="2787480" y="2813040"/>
              <a:ext cx="612720" cy="40932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9"/>
            <p:cNvSpPr/>
            <p:nvPr/>
          </p:nvSpPr>
          <p:spPr>
            <a:xfrm>
              <a:off x="2752560" y="3249720"/>
              <a:ext cx="398160" cy="2696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0"/>
            <p:cNvSpPr/>
            <p:nvPr/>
          </p:nvSpPr>
          <p:spPr>
            <a:xfrm>
              <a:off x="2481120" y="2355840"/>
              <a:ext cx="630000" cy="407880"/>
            </a:xfrm>
            <a:prstGeom prst="ellipse">
              <a:avLst/>
            </a:pr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412FA-4EE2-4AEA-A1D9-0AB9C9A5F4FE}" type="datetime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CD866E-AFEB-4FB8-8956-AD927E7E84AE}" type="slidenum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6"/>
          <p:cNvGrpSpPr/>
          <p:nvPr/>
        </p:nvGrpSpPr>
        <p:grpSpPr>
          <a:xfrm>
            <a:off x="222120" y="1254240"/>
            <a:ext cx="7893360" cy="3919320"/>
            <a:chOff x="222120" y="1254240"/>
            <a:chExt cx="7893360" cy="3919320"/>
          </a:xfrm>
        </p:grpSpPr>
        <p:sp>
          <p:nvSpPr>
            <p:cNvPr id="144" name="Rounded Rectangle 16"/>
            <p:cNvSpPr/>
            <p:nvPr/>
          </p:nvSpPr>
          <p:spPr>
            <a:xfrm>
              <a:off x="1028520" y="1600200"/>
              <a:ext cx="7086960" cy="3475080"/>
            </a:xfrm>
            <a:prstGeom prst="roundRect">
              <a:avLst>
                <a:gd name="adj" fmla="val 3120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9"/>
            <p:cNvGrpSpPr/>
            <p:nvPr/>
          </p:nvGrpSpPr>
          <p:grpSpPr>
            <a:xfrm>
              <a:off x="222120" y="1254240"/>
              <a:ext cx="3429360" cy="3919320"/>
              <a:chOff x="222120" y="1254240"/>
              <a:chExt cx="3429360" cy="3919320"/>
            </a:xfrm>
          </p:grpSpPr>
          <p:sp>
            <p:nvSpPr>
              <p:cNvPr id="146" name="Oval 18"/>
              <p:cNvSpPr/>
              <p:nvPr/>
            </p:nvSpPr>
            <p:spPr>
              <a:xfrm>
                <a:off x="222120" y="1254240"/>
                <a:ext cx="3429360" cy="22255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19"/>
              <p:cNvSpPr/>
              <p:nvPr/>
            </p:nvSpPr>
            <p:spPr>
              <a:xfrm>
                <a:off x="1895400" y="3522600"/>
                <a:ext cx="1433520" cy="95544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20"/>
              <p:cNvSpPr/>
              <p:nvPr/>
            </p:nvSpPr>
            <p:spPr>
              <a:xfrm>
                <a:off x="1814400" y="4543560"/>
                <a:ext cx="932040" cy="630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21"/>
              <p:cNvSpPr/>
              <p:nvPr/>
            </p:nvSpPr>
            <p:spPr>
              <a:xfrm>
                <a:off x="1177920" y="2452680"/>
                <a:ext cx="1476360" cy="95544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54AED2-305F-4A91-BC4A-29EA6989844E}" type="datetime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99ABE-DC62-4064-A174-E010C38BBFC6}" type="slidenum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3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192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0"/>
            <p:cNvGrpSpPr/>
            <p:nvPr/>
          </p:nvGrpSpPr>
          <p:grpSpPr>
            <a:xfrm>
              <a:off x="7524000" y="519480"/>
              <a:ext cx="700920" cy="801000"/>
              <a:chOff x="7524000" y="519480"/>
              <a:chExt cx="700920" cy="801000"/>
            </a:xfrm>
          </p:grpSpPr>
          <p:sp>
            <p:nvSpPr>
              <p:cNvPr id="194" name="Oval 18"/>
              <p:cNvSpPr/>
              <p:nvPr/>
            </p:nvSpPr>
            <p:spPr>
              <a:xfrm>
                <a:off x="7524000" y="519480"/>
                <a:ext cx="700920" cy="455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19"/>
              <p:cNvSpPr/>
              <p:nvPr/>
            </p:nvSpPr>
            <p:spPr>
              <a:xfrm>
                <a:off x="7865640" y="982800"/>
                <a:ext cx="29412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0"/>
              <p:cNvSpPr/>
              <p:nvPr/>
            </p:nvSpPr>
            <p:spPr>
              <a:xfrm>
                <a:off x="7849800" y="1191960"/>
                <a:ext cx="19080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1"/>
              <p:cNvSpPr/>
              <p:nvPr/>
            </p:nvSpPr>
            <p:spPr>
              <a:xfrm>
                <a:off x="7719480" y="763560"/>
                <a:ext cx="302040" cy="19656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CFBDB-D2A4-4D70-B214-F59116965F6A}" type="datetime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321400" y="36360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53E0EA-3C7C-4CC1-9CA0-905BE84743D4}" type="slidenum">
              <a:rPr b="1" lang="en-US" sz="2400" spc="-1" strike="noStrike">
                <a:solidFill>
                  <a:srgbClr val="749805"/>
                </a:solidFill>
                <a:latin typeface="News Gothic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5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240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17"/>
            <p:cNvGrpSpPr/>
            <p:nvPr/>
          </p:nvGrpSpPr>
          <p:grpSpPr>
            <a:xfrm>
              <a:off x="7524000" y="519480"/>
              <a:ext cx="700920" cy="801000"/>
              <a:chOff x="7524000" y="519480"/>
              <a:chExt cx="700920" cy="801000"/>
            </a:xfrm>
          </p:grpSpPr>
          <p:sp>
            <p:nvSpPr>
              <p:cNvPr id="242" name="Oval 18"/>
              <p:cNvSpPr/>
              <p:nvPr/>
            </p:nvSpPr>
            <p:spPr>
              <a:xfrm>
                <a:off x="7524000" y="519480"/>
                <a:ext cx="700920" cy="455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19"/>
              <p:cNvSpPr/>
              <p:nvPr/>
            </p:nvSpPr>
            <p:spPr>
              <a:xfrm>
                <a:off x="7865640" y="982800"/>
                <a:ext cx="29412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20"/>
              <p:cNvSpPr/>
              <p:nvPr/>
            </p:nvSpPr>
            <p:spPr>
              <a:xfrm>
                <a:off x="7849800" y="1191960"/>
                <a:ext cx="19080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21"/>
              <p:cNvSpPr/>
              <p:nvPr/>
            </p:nvSpPr>
            <p:spPr>
              <a:xfrm>
                <a:off x="7719480" y="763560"/>
                <a:ext cx="302040" cy="19656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963599-BE4E-4945-9850-F34EF7EAACB5}" type="datetime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37FDB6-8A08-47BA-95D8-5AB1AB2D0010}" type="slidenum">
              <a:rPr b="1" lang="en-US" sz="2400" spc="-1" strike="noStrike">
                <a:solidFill>
                  <a:srgbClr val="749805"/>
                </a:solidFill>
                <a:latin typeface="News Gothic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8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288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10"/>
            <p:cNvGrpSpPr/>
            <p:nvPr/>
          </p:nvGrpSpPr>
          <p:grpSpPr>
            <a:xfrm>
              <a:off x="7524000" y="519480"/>
              <a:ext cx="700920" cy="801000"/>
              <a:chOff x="7524000" y="519480"/>
              <a:chExt cx="700920" cy="801000"/>
            </a:xfrm>
          </p:grpSpPr>
          <p:sp>
            <p:nvSpPr>
              <p:cNvPr id="290" name="Oval 18"/>
              <p:cNvSpPr/>
              <p:nvPr/>
            </p:nvSpPr>
            <p:spPr>
              <a:xfrm>
                <a:off x="7524000" y="519480"/>
                <a:ext cx="700920" cy="455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19"/>
              <p:cNvSpPr/>
              <p:nvPr/>
            </p:nvSpPr>
            <p:spPr>
              <a:xfrm>
                <a:off x="7865640" y="982800"/>
                <a:ext cx="29412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20"/>
              <p:cNvSpPr/>
              <p:nvPr/>
            </p:nvSpPr>
            <p:spPr>
              <a:xfrm>
                <a:off x="7849800" y="1191960"/>
                <a:ext cx="19080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21"/>
              <p:cNvSpPr/>
              <p:nvPr/>
            </p:nvSpPr>
            <p:spPr>
              <a:xfrm>
                <a:off x="7719480" y="763560"/>
                <a:ext cx="302040" cy="19656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D018F-1C68-4E16-9107-2B82496F017F}" type="datetime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BEB1A-AF81-44EE-A7B8-1ECC7D6B9B64}" type="slidenum">
              <a:rPr b="1" lang="en-US" sz="2400" spc="-1" strike="noStrike">
                <a:solidFill>
                  <a:srgbClr val="749805"/>
                </a:solidFill>
                <a:latin typeface="News Gothic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7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336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Group 10"/>
            <p:cNvGrpSpPr/>
            <p:nvPr/>
          </p:nvGrpSpPr>
          <p:grpSpPr>
            <a:xfrm>
              <a:off x="7524000" y="519480"/>
              <a:ext cx="700920" cy="801000"/>
              <a:chOff x="7524000" y="519480"/>
              <a:chExt cx="700920" cy="801000"/>
            </a:xfrm>
          </p:grpSpPr>
          <p:sp>
            <p:nvSpPr>
              <p:cNvPr id="338" name="Oval 18"/>
              <p:cNvSpPr/>
              <p:nvPr/>
            </p:nvSpPr>
            <p:spPr>
              <a:xfrm>
                <a:off x="7524000" y="519480"/>
                <a:ext cx="700920" cy="455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19"/>
              <p:cNvSpPr/>
              <p:nvPr/>
            </p:nvSpPr>
            <p:spPr>
              <a:xfrm>
                <a:off x="7865640" y="982800"/>
                <a:ext cx="29412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Oval 20"/>
              <p:cNvSpPr/>
              <p:nvPr/>
            </p:nvSpPr>
            <p:spPr>
              <a:xfrm>
                <a:off x="7849800" y="1191960"/>
                <a:ext cx="19080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21"/>
              <p:cNvSpPr/>
              <p:nvPr/>
            </p:nvSpPr>
            <p:spPr>
              <a:xfrm>
                <a:off x="7719480" y="763560"/>
                <a:ext cx="302040" cy="19656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16708-C158-4219-A90D-1280922E18F2}" type="datetime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5A67E-DB44-4AC3-AA45-1EA808D99A07}" type="slidenum">
              <a:rPr b="1" lang="en-US" sz="2400" spc="-1" strike="noStrike">
                <a:solidFill>
                  <a:srgbClr val="749805"/>
                </a:solidFill>
                <a:latin typeface="News Gothic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50840" y="1681200"/>
            <a:ext cx="3273480" cy="3006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News Gothic MT"/>
              </a:rPr>
              <a:t> 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News Gothic MT"/>
              </a:rPr>
              <a:t>Instructional Practices to Support Student Mastery</a:t>
            </a:r>
            <a:br>
              <a:rPr sz="3600"/>
            </a:br>
            <a:endParaRPr b="0" lang="en-US" sz="36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650840" y="4422600"/>
            <a:ext cx="3273480" cy="5320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News Gothic MT"/>
              </a:rPr>
              <a:t>By Alex LaPres</a:t>
            </a:r>
            <a:endParaRPr b="0" lang="en-US" sz="14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2018880" y="1600200"/>
            <a:ext cx="621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Rockwell"/>
              </a:rPr>
              <a:t>E = Evidence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marL="514440" indent="-514440">
              <a:lnSpc>
                <a:spcPct val="10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Rockwell"/>
              </a:rPr>
              <a:t>This is the evidence from the text that supports your assertion. 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marL="514440" indent="-514440">
              <a:lnSpc>
                <a:spcPct val="10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Rockwell"/>
              </a:rPr>
              <a:t>Here, you back it up (not on the dance floor).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marL="514440" indent="-514440">
              <a:lnSpc>
                <a:spcPct val="10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Rockwell"/>
              </a:rPr>
              <a:t>The EVIDENCE is BLUE.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3"/>
          <p:cNvSpPr/>
          <p:nvPr/>
        </p:nvSpPr>
        <p:spPr>
          <a:xfrm>
            <a:off x="1693800" y="914400"/>
            <a:ext cx="653580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Rockwell"/>
              </a:rPr>
              <a:t>C = Commenta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749805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Rockwell"/>
              </a:rPr>
              <a:t>This is the commentary on the fact that connects it to the assertion and answers the question, “so what?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749805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Rockwell"/>
              </a:rPr>
              <a:t>Here you explain why the evidence is important enough to prove your asser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749805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Rockwell"/>
              </a:rPr>
              <a:t>You should have more yellow than blue or green in your paragraph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749805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Rockwell"/>
              </a:rPr>
              <a:t>The COMMENTARY is YELLOW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889280" y="1600200"/>
            <a:ext cx="6340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Rockwell"/>
              </a:rPr>
              <a:t>R= Relate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lnSpc>
                <a:spcPct val="10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Rockwell"/>
              </a:rPr>
              <a:t>This is where you wrap it up.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lnSpc>
                <a:spcPct val="10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Rockwell"/>
              </a:rPr>
              <a:t>Your relate should synthesize the paragraph and tell the reader how your claim supports your thesis.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lnSpc>
                <a:spcPct val="10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Rockwell"/>
              </a:rPr>
              <a:t>The RESTATE is GREEN.</a:t>
            </a:r>
            <a:endParaRPr b="0" lang="en-US" sz="3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69920" y="321840"/>
            <a:ext cx="6407280" cy="12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ommon Challenge 4:</a:t>
            </a:r>
            <a:br>
              <a:rPr sz="2800"/>
            </a:b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Ongoing Formative Assessment</a:t>
            </a:r>
            <a:br>
              <a:rPr sz="2800"/>
            </a:b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376000" y="1572840"/>
            <a:ext cx="59994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News Gothic MT"/>
              </a:rPr>
              <a:t>Challenge: </a:t>
            </a: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eachers are unable to assess student mastery of the information until the final essay.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eachers need multiple built-in formative assessments to assess students understanding of material and drive instruction.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Best Practices: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Assignment Check Lis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Exit Slips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eacher-student conferences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lf-assessmen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Agenda: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Introduction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heck-in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4 Most Common Challenges and Instructional Practices to Ensure Success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Peer Experience and Gallery Walk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Wrap-up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Objective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eachers will increase their teaching toolbox to ensure student success on modules and mastery of the Common Core standards. 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ommon Challenge 1:</a:t>
            </a:r>
            <a:br>
              <a:rPr sz="2800"/>
            </a:b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Task Analysis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360160" y="1572840"/>
            <a:ext cx="60152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News Gothic MT"/>
              </a:rPr>
              <a:t>Challenge: Students do not fully understand the prompt or what the question is asking of them. </a:t>
            </a:r>
            <a:endParaRPr b="0" lang="en-US" sz="1900" spc="-1" strike="noStrike">
              <a:solidFill>
                <a:srgbClr val="404040"/>
              </a:solidFill>
              <a:latin typeface="News Gothic MT"/>
            </a:endParaRPr>
          </a:p>
          <a:p>
            <a:pPr marL="343080" indent="-34308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News Gothic MT"/>
              </a:rPr>
              <a:t>Students must be </a:t>
            </a:r>
            <a:r>
              <a:rPr b="1" i="1" lang="en-US" sz="1800" spc="-1" strike="noStrike" u="sng">
                <a:solidFill>
                  <a:srgbClr val="404040"/>
                </a:solidFill>
                <a:uFillTx/>
                <a:latin typeface="News Gothic MT"/>
              </a:rPr>
              <a:t>taught</a:t>
            </a:r>
            <a:r>
              <a:rPr b="1" lang="en-US" sz="1800" spc="-1" strike="noStrike">
                <a:solidFill>
                  <a:srgbClr val="404040"/>
                </a:solidFill>
                <a:latin typeface="News Gothic MT"/>
              </a:rPr>
              <a:t> how to: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571680" indent="-34308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Deconstruct and internalize the promp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571680" indent="-34308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Understand academic vocabulary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343080" indent="-34308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News Gothic MT"/>
              </a:rPr>
              <a:t>Best Practices: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571680" indent="-34308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Annotate the promp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571680" indent="-34308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Diffusing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571680" indent="-34308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RAF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571680" indent="-34308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Re-write the promp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571680" indent="-34308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571680" indent="-34308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Ensuring Student Mastery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30560" y="2020680"/>
            <a:ext cx="6145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PARCC Sample Item: 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pic>
        <p:nvPicPr>
          <p:cNvPr id="400" name="Picture 4" descr="Picture 3.png"/>
          <p:cNvPicPr/>
          <p:nvPr/>
        </p:nvPicPr>
        <p:blipFill>
          <a:blip r:embed="rId1"/>
          <a:stretch/>
        </p:blipFill>
        <p:spPr>
          <a:xfrm>
            <a:off x="1795320" y="2490840"/>
            <a:ext cx="7061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ommon Challenge 2: Complex Text 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214720" y="2020680"/>
            <a:ext cx="61610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News Gothic MT"/>
              </a:rPr>
              <a:t>Challenge: Students struggle to comprehend complex text.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tudents must be </a:t>
            </a:r>
            <a:r>
              <a:rPr b="0" i="1" lang="en-US" sz="1800" spc="-1" strike="noStrike">
                <a:solidFill>
                  <a:srgbClr val="404040"/>
                </a:solidFill>
                <a:latin typeface="News Gothic MT"/>
              </a:rPr>
              <a:t>taught</a:t>
            </a: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 how to comprehend and analyze a complex text.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Best Practices: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Essential Questions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hunking the tex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Multiple reads 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Jigsaw 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ommon Challenge 3: Academic Writing and Citing Evidence 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198160" y="2020680"/>
            <a:ext cx="61772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News Gothic MT"/>
              </a:rPr>
              <a:t>Challenge: </a:t>
            </a: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tudents struggle with organization and citing strong evidence in academic writing.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tudents must be </a:t>
            </a:r>
            <a:r>
              <a:rPr b="0" i="1" lang="en-US" sz="1800" spc="-1" strike="noStrike">
                <a:solidFill>
                  <a:srgbClr val="404040"/>
                </a:solidFill>
                <a:latin typeface="News Gothic MT"/>
              </a:rPr>
              <a:t>taught</a:t>
            </a: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 how to: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tructure academic writing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Develop a claim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ite credible information to support their claim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Best Practices: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Exemplar student writing samples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AECR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AECR Strategy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116080" y="2020680"/>
            <a:ext cx="62596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an be used for either constructed response or multi-paragraph essays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Great for differentiation- structured and color-coded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AECR structure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774800" y="1839960"/>
            <a:ext cx="64548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Rockwell"/>
              </a:rPr>
              <a:t>A = Assertion</a:t>
            </a:r>
            <a:endParaRPr b="0" lang="en-US" sz="3000" spc="-1" strike="noStrike">
              <a:solidFill>
                <a:srgbClr val="404040"/>
              </a:solidFill>
              <a:latin typeface="News Gothic MT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Rockwell"/>
              </a:rPr>
              <a:t>This is the topic sentence that relates back to the thesis or answers the questions.</a:t>
            </a:r>
            <a:endParaRPr b="0" lang="en-US" sz="3000" spc="-1" strike="noStrike">
              <a:solidFill>
                <a:srgbClr val="404040"/>
              </a:solidFill>
              <a:latin typeface="News Gothic MT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Rockwell"/>
              </a:rPr>
              <a:t>Here, you make an argument or state your claim.</a:t>
            </a:r>
            <a:endParaRPr b="0" lang="en-US" sz="3000" spc="-1" strike="noStrike">
              <a:solidFill>
                <a:srgbClr val="404040"/>
              </a:solidFill>
              <a:latin typeface="News Gothic MT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Rockwell"/>
              </a:rPr>
              <a:t>It is a clearly stated expression of purpose.</a:t>
            </a:r>
            <a:endParaRPr b="0" lang="en-US" sz="3000" spc="-1" strike="noStrike">
              <a:solidFill>
                <a:srgbClr val="404040"/>
              </a:solidFill>
              <a:latin typeface="News Gothic MT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Rockwell"/>
              </a:rPr>
              <a:t>The ASSERTION is GREEN.</a:t>
            </a:r>
            <a:endParaRPr b="0" lang="en-US" sz="30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18:36:12Z</dcterms:created>
  <dc:creator>Alexandra LaPres</dc:creator>
  <dc:description/>
  <dc:language>en-US</dc:language>
  <cp:lastModifiedBy>Amy</cp:lastModifiedBy>
  <dcterms:modified xsi:type="dcterms:W3CDTF">2012-11-28T23:47:36Z</dcterms:modified>
  <cp:revision>3</cp:revision>
  <dc:subject/>
  <dc:title>Instructional Practices</dc:title>
</cp:coreProperties>
</file>